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CC7-34DC-4495-A6EE-EB9CF71A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0ED-D71A-4384-99B6-960CE369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66B-F7DC-4F9A-A180-DAF41110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BE9-0CE2-4C8E-A89A-A5BF74D2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C98-C7AB-4777-AC94-9EAEFFBA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E6A-D5E6-4BF4-9CF5-508C4657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947-8502-4CFB-862D-17B6044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ACD-BDA5-41D0-A5B2-CF9AC3C0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500-4C8D-4960-B191-3A98FE7E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779-52DB-4D78-A7F8-A5FA434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0C0-C945-471B-93B1-2203829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371-C856-4142-AF29-0FAC28A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734F-21A4-44C9-BE81-569C03D644C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24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00"/>
                </a:solidFill>
                <a:latin typeface="Arial"/>
              </a:rPr>
              <a:t>A INTERNET:</a:t>
            </a:r>
            <a:br>
              <a:rPr sz="4800"/>
            </a:br>
            <a:r>
              <a:rPr b="1" lang="pt-BR" sz="4800" spc="-1" strike="noStrike">
                <a:solidFill>
                  <a:srgbClr val="006600"/>
                </a:solidFill>
                <a:latin typeface="Arial"/>
              </a:rPr>
              <a:t>“COMUNICAÇÃO ONLINE PROFESSOR/ALUN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7120" y="3071880"/>
            <a:ext cx="850104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Profº. STE Emerson 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ernando</a:t>
            </a: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 Alves do Co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Matu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E.E. Senador Filinto Mu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Ivinhema -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0040" y="500076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to 229"/>
          <p:cNvPicPr/>
          <p:nvPr/>
        </p:nvPicPr>
        <p:blipFill>
          <a:blip r:embed="rId1"/>
          <a:stretch/>
        </p:blipFill>
        <p:spPr>
          <a:xfrm>
            <a:off x="0" y="0"/>
            <a:ext cx="5508720" cy="4132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oto 235"/>
          <p:cNvPicPr/>
          <p:nvPr/>
        </p:nvPicPr>
        <p:blipFill>
          <a:blip r:embed="rId2"/>
          <a:stretch/>
        </p:blipFill>
        <p:spPr>
          <a:xfrm>
            <a:off x="3754440" y="2816280"/>
            <a:ext cx="5389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Público Al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5013360"/>
            <a:ext cx="820908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2º Ano “A” – Ensino Mé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73200" y="1685880"/>
            <a:ext cx="82296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6600"/>
                </a:solidFill>
                <a:latin typeface="Arial"/>
              </a:rPr>
              <a:t>Professor Aguinaldo Costa Nunes da disciplina de Históri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Ge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Oferecer capacitação ao professor Aguinaldo Costa Nunes quanto a montagem e publicação de site. Mostrar a importância de se ter um site para promover maior interação com dos alunos com os conteúdos estudados possibilitando também fazer a publicação dos trabalhos desenvolvidos por eles no decorrer do ano letivo neste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Apresentar ao professor o potencial do uso de um micro computador e o uso específico do aplicativo Microsoft Office Publisher onde será desenvolvido todo o trabalho da criação deste si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Criação de links onde estes se relacionarão aos assuntos diversos desenvolvidos pelo me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Tecnologias Utiliz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Editor AZ Paint Pro, Icon Editor &amp; Animated GIF Editor8.4.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Editor Imagem (Corel Photo Pai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Microsoft Publis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ileZilla-3.0.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Metodologia – 1ª Et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apacitar o professor a utilizar os recursos disponíveis no Microsoft Office Publish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Arial"/>
              </a:rPr>
              <a:t>Criação do site pelo professor e alimentação com os conteúdos curriculares e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Metodologia – 2ª Et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Criação de uma conta no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hotmail específica a este trabalho para que os alunos possam se comunicar com o profess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Apresentação do site aos alunos e acesso aos conteúdos e atv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Desenvolvimento das atividades propo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Envio das atividades realizadas ao professor via e-ma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Publicação das atividades dos alunos pelo professor em seu por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http://profaguinaldo.hdfree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ink"/>
          <p:cNvPicPr/>
          <p:nvPr/>
        </p:nvPicPr>
        <p:blipFill>
          <a:blip r:embed="rId1"/>
          <a:stretch/>
        </p:blipFill>
        <p:spPr>
          <a:xfrm>
            <a:off x="611280" y="2421000"/>
            <a:ext cx="81374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oto 232"/>
          <p:cNvPicPr/>
          <p:nvPr/>
        </p:nvPicPr>
        <p:blipFill>
          <a:blip r:embed="rId1"/>
          <a:stretch/>
        </p:blipFill>
        <p:spPr>
          <a:xfrm>
            <a:off x="0" y="0"/>
            <a:ext cx="5292720" cy="396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oto 233"/>
          <p:cNvPicPr/>
          <p:nvPr/>
        </p:nvPicPr>
        <p:blipFill>
          <a:blip r:embed="rId2"/>
          <a:stretch/>
        </p:blipFill>
        <p:spPr>
          <a:xfrm>
            <a:off x="3708360" y="2781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Foto 234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Foto 236"/>
          <p:cNvPicPr/>
          <p:nvPr/>
        </p:nvPicPr>
        <p:blipFill>
          <a:blip r:embed="rId2"/>
          <a:stretch/>
        </p:blipFill>
        <p:spPr>
          <a:xfrm>
            <a:off x="0" y="2835360"/>
            <a:ext cx="536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4:41:29Z</dcterms:created>
  <dc:creator>Escola</dc:creator>
  <dc:description/>
  <dc:language>en-US</dc:language>
  <cp:lastModifiedBy>MicroCarla</cp:lastModifiedBy>
  <dcterms:modified xsi:type="dcterms:W3CDTF">2009-08-11T13:30:25Z</dcterms:modified>
  <cp:revision>43</cp:revision>
  <dc:subject/>
  <dc:title>Internet – Recurso indispensável</dc:title>
</cp:coreProperties>
</file>